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BBA-06FE-4403-9CC7-B939CF08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D3B-A14E-49F1-B810-CDCD6B59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2E5-7869-4174-BD99-225CB5B2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EF25-B4F9-47F2-8859-EB1724B2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3658-C136-4AAE-ACAB-DBDA9CFF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7631-B736-4DD9-B17E-D82446B5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60E8-25A8-436A-BE7D-896016CE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CF24-A0B8-4812-90E5-F6D82E62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850B-E109-4D25-95AA-BABE9EFE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24EF-8987-4303-B16C-16987AF2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A89B-3495-45CE-BAAE-F4CCF312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B95-3214-4139-99A4-8858B943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690F-4C16-49B5-AAD7-5A7A679C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F4C5-5CC6-4B6D-A283-F01FB711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6345-9ECD-40D9-9E2A-95E33492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FE63-A47E-4233-B83C-86890472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D04C-54DA-46F5-B00C-78CDCA40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2944-1655-4589-A65D-F3E4C516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752-575D-4C48-9B1F-09AC8550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482-C1CE-4408-8E27-C3142363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A58-3AB5-4328-9D1E-1B9FF413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C5F-8BAE-4BD6-9BFB-B8A8B441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955-AB23-4B3F-88E2-3EE6436A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D58-8E1D-4D1E-A90B-58737AA7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808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44C5-F43D-4673-86E9-72B16949126C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DE59-65B6-40D3-A9A1-87ABCEECB1AE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SzPct val="90000"/>
              <a:buFont typeface="Wingdings" charset="2"/>
              <a:buChar char="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228564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c2c1c"/>
                </a:solidFill>
                <a:latin typeface="Trebuchet MS"/>
              </a:rPr>
              <a:t>Measuremen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ythagorean Relationship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rebuchet MS"/>
              </a:rPr>
              <a:t>Pythagorean relationship</a:t>
            </a: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4647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2057400"/>
            <a:ext cx="2057400" cy="297180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49528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42670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35812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28195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19810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274320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3276720"/>
            <a:ext cx="15228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388620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49528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434340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49528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49528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4648320"/>
            <a:ext cx="38088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02960" y="266688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2c1c"/>
                </a:solidFill>
                <a:latin typeface="Arial"/>
              </a:rPr>
              <a:t>hypoten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2057400"/>
            <a:ext cx="2057400" cy="2971800"/>
          </a:xfrm>
          <a:prstGeom prst="line">
            <a:avLst/>
          </a:prstGeom>
          <a:ln w="57240">
            <a:solidFill>
              <a:srgbClr val="fc2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26080" y="5410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2c1c"/>
                </a:solidFill>
                <a:latin typeface="Arial"/>
              </a:rPr>
              <a:t>le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5029200"/>
            <a:ext cx="205740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486400" y="2057040"/>
            <a:ext cx="0" cy="297180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105520" y="518112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105520" y="403848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2590920"/>
            <a:ext cx="4114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In a right triangle, the sum of the squares (area) of the legs is equal to the square (area) of the hypoten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rebuchet MS"/>
              </a:rPr>
              <a:t>Pythagorean relationship</a:t>
            </a: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4876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2c1c"/>
                </a:solidFill>
                <a:latin typeface="Arial"/>
              </a:rPr>
              <a:t>a</a:t>
            </a:r>
            <a:r>
              <a:rPr b="1" i="1" lang="en-US" sz="3600" spc="-1" strike="noStrike" baseline="30000">
                <a:solidFill>
                  <a:srgbClr val="fc2c1c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c2c1c"/>
                </a:solidFill>
                <a:latin typeface="Arial"/>
              </a:rPr>
              <a:t> + b</a:t>
            </a:r>
            <a:r>
              <a:rPr b="1" i="1" lang="en-US" sz="3600" spc="-1" strike="noStrike" baseline="30000">
                <a:solidFill>
                  <a:srgbClr val="fc2c1c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c2c1c"/>
                </a:solidFill>
                <a:latin typeface="Arial"/>
              </a:rPr>
              <a:t> = c</a:t>
            </a:r>
            <a:r>
              <a:rPr b="1" i="1" lang="en-US" sz="3600" spc="-1" strike="noStrike" baseline="30000">
                <a:solidFill>
                  <a:srgbClr val="fc2c1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71800" y="3505320"/>
            <a:ext cx="2057400" cy="1143000"/>
          </a:xfrm>
          <a:prstGeom prst="rtTriangl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43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38098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3505320"/>
            <a:ext cx="1066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3200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3886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3733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rea = b</a:t>
            </a:r>
            <a:r>
              <a:rPr b="1" lang="en-US" sz="1800" spc="-1" strike="noStrike" baseline="30000">
                <a:solidFill>
                  <a:srgbClr val="3366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4648320"/>
            <a:ext cx="20574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5410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rea = a</a:t>
            </a:r>
            <a:r>
              <a:rPr b="1" lang="en-US" sz="1800" spc="-1" strike="noStrike" baseline="30000">
                <a:solidFill>
                  <a:srgbClr val="3366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5334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727400">
            <a:off x="3330360" y="2149560"/>
            <a:ext cx="23619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3657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rea = c</a:t>
            </a:r>
            <a:r>
              <a:rPr b="1" lang="en-US" sz="1800" spc="-1" strike="noStrike" baseline="30000">
                <a:solidFill>
                  <a:srgbClr val="3366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4419720"/>
            <a:ext cx="228600" cy="228600"/>
          </a:xfrm>
          <a:prstGeom prst="rect">
            <a:avLst/>
          </a:prstGeom>
          <a:solidFill>
            <a:srgbClr val="fc2c1c"/>
          </a:solidFill>
          <a:ln w="9360">
            <a:solidFill>
              <a:srgbClr val="fc2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rebuchet MS"/>
              </a:rPr>
              <a:t>Assignment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800000"/>
                </a:solidFill>
                <a:latin typeface="Trebuchet MS"/>
              </a:rPr>
              <a:t>Handout sheet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800000"/>
                </a:solidFill>
                <a:latin typeface="Trebuchet MS"/>
              </a:rPr>
              <a:t>Page 482, Questions 1,2,4,5,6,7</a:t>
            </a:r>
            <a:br>
              <a:rPr sz="4000"/>
            </a:b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3048120"/>
            <a:ext cx="4647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rebuchet MS"/>
              </a:rPr>
              <a:t>Pythagorean theorem</a:t>
            </a: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048120"/>
            <a:ext cx="4647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rcRect l="0" t="19300" r="0" b="0"/>
          <a:stretch/>
        </p:blipFill>
        <p:spPr>
          <a:xfrm>
            <a:off x="1219320" y="2743200"/>
            <a:ext cx="7315200" cy="3506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i="1" lang="en-US" sz="4800" spc="-1" strike="noStrike">
                <a:solidFill>
                  <a:srgbClr val="800000"/>
                </a:solidFill>
                <a:latin typeface="Trebuchet MS"/>
              </a:rPr>
              <a:t>Who was Pythagoras?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2959200" cy="3581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2800440"/>
            <a:ext cx="4191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66ff"/>
                </a:solidFill>
                <a:latin typeface="Arial"/>
              </a:rPr>
              <a:t>Why all the fuss about 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66ff"/>
                </a:solidFill>
                <a:latin typeface="Arial"/>
              </a:rPr>
              <a:t>dead Greek gu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71500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85 or 565 - 500 B.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86200" y="22824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rebuchet MS"/>
              </a:rPr>
              <a:t>It all started with the Pyramids!</a:t>
            </a: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2362320"/>
            <a:ext cx="472428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A couple thousand years before Pythagoras, the Egyptians used a unique method to make sure the base of each pyramid was square.</a:t>
            </a:r>
            <a:r>
              <a:rPr b="1" i="1" lang="en-US" sz="36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365760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rebuchet MS"/>
              </a:rPr>
              <a:t>How NOT to build a pyramid…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5257800" cy="3867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rebuchet MS"/>
              </a:rPr>
              <a:t>Measuring a square corner using a …ROPE??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243828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The Egyptian engineers used a  rope tied together at the ends with 12 knots tied in equal distances around the 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895480"/>
            <a:ext cx="2057400" cy="297180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57913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51055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44197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365760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28195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5812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411480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472428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57913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51814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57913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57913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rebuchet MS"/>
              </a:rPr>
              <a:t>Measuring a square corner using a …ROPE??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266688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They knew that when the rope was shaped into a triangle with sides of 3, 4, and 5 it created a right angle between the sides of 3 and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2895480"/>
            <a:ext cx="2057400" cy="297180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57913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51055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44197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365760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28195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35812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411480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472428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57913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51814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57913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57913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486400"/>
            <a:ext cx="38088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39400" y="583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20080" y="407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960" y="407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rebuchet MS"/>
              </a:rPr>
              <a:t>Important term…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243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Arial"/>
              </a:rPr>
              <a:t>In a right angle triangle, the side of the triangle opposite the right angle is called the </a:t>
            </a:r>
            <a:r>
              <a:rPr b="1" i="1" lang="en-US" sz="3600" spc="-1" strike="noStrike">
                <a:solidFill>
                  <a:srgbClr val="fc2c1c"/>
                </a:solidFill>
                <a:latin typeface="Arial"/>
              </a:rPr>
              <a:t>hypotenuse</a:t>
            </a:r>
            <a:r>
              <a:rPr b="1" i="1" lang="en-US" sz="36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2666880"/>
            <a:ext cx="2057400" cy="297180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5562720"/>
            <a:ext cx="15228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4876920"/>
            <a:ext cx="15228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4191120"/>
            <a:ext cx="15228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342900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590920"/>
            <a:ext cx="15228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335268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8620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449568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562720"/>
            <a:ext cx="15228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495288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562720"/>
            <a:ext cx="15228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5562720"/>
            <a:ext cx="15228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257800"/>
            <a:ext cx="38124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83240" y="3276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2c1c"/>
                </a:solidFill>
                <a:latin typeface="Arial"/>
              </a:rPr>
              <a:t>hypoten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666880"/>
            <a:ext cx="2057400" cy="2971800"/>
          </a:xfrm>
          <a:prstGeom prst="line">
            <a:avLst/>
          </a:prstGeom>
          <a:ln w="57240">
            <a:solidFill>
              <a:srgbClr val="fc2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672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le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5638680"/>
            <a:ext cx="205740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066680" y="2666520"/>
            <a:ext cx="0" cy="297180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85800" y="579096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85800" y="46483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rebuchet MS"/>
              </a:rPr>
              <a:t>Activity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2057400"/>
            <a:ext cx="78483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Arial"/>
              </a:rPr>
              <a:t>You will work in pair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Arial"/>
              </a:rPr>
              <a:t>You will ne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3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 </a:t>
            </a:r>
            <a:r>
              <a:rPr b="1" i="1" lang="en-US" sz="36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centimetre grid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3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 </a:t>
            </a:r>
            <a:r>
              <a:rPr b="1" i="1" lang="en-US" sz="36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sciss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Concept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Page 246,  Questions 1-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rebuchet MS"/>
              </a:rPr>
              <a:t>So…who was Pythagoras?</a:t>
            </a:r>
            <a:br>
              <a:rPr sz="4000"/>
            </a:b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1066680"/>
            <a:ext cx="5334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Greek – described as the first pure mathemetic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Lived ~ 2500 years ag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Led a secretive society, half scientific and         half religious, that he founded in what is now southern 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297180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0:44:39Z</dcterms:created>
  <dc:creator>Jeff Whipple</dc:creator>
  <dc:description/>
  <dc:language>en-US</dc:language>
  <cp:lastModifiedBy>Administrator</cp:lastModifiedBy>
  <dcterms:modified xsi:type="dcterms:W3CDTF">2006-07-25T01:16:29Z</dcterms:modified>
  <cp:revision>25</cp:revision>
  <dc:subject/>
  <dc:title>Representing Data</dc:title>
</cp:coreProperties>
</file>